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B90-9F94-430D-AF25-56A9007C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534-CF77-4059-89BA-5FC8A676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15E-AC2C-44D1-8455-D9CCDD52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A15-0F95-4861-A8AF-95ACF33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CD53-24F8-4AB2-A1C0-E2F20FBC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FF7-940B-41CE-A33C-6660B95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154-A84D-433D-82B8-D2E1D83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4DC8-F2B2-42A9-8CAF-EF222F5E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3947-BD23-4D1E-B147-E13AA7F2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D6E-6929-4006-B152-D878A4F3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A682-D5D1-4BA7-90B8-6EB3DDC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6AE-7809-4147-9FF2-3A3639A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FA4-ECC7-4632-AC58-89C4804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760-DE9A-44C1-A62D-1921FCF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3BD0-1E8B-4C6F-A3ED-B2D8FDF7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AE00-F6CF-4C83-BEA5-1AC31E42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2607-7B9D-479B-9DF4-8CE158E1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01C-AD9B-48DD-833D-C4B18B31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A22-DB6D-4108-819C-36ABB52D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3BF-BFDD-4253-8E22-2E10386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DB7-973F-4EC4-8E6F-5E6A9AE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EFD-FE7B-46A0-99E6-23D0911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301-63DB-45BB-997E-245A966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B16-20D7-4F5A-BD1A-47CCF0D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65B-44B1-491B-B128-9D5C11A0F3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B9C-657C-4494-80D3-940F09436C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orld_Health_Report" TargetMode="External"/><Relationship Id="rId2" Type="http://schemas.openxmlformats.org/officeDocument/2006/relationships/hyperlink" Target="http://en.wikipedia.org/wiki/Cholestero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ype_2_diabete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_disease" TargetMode="External"/><Relationship Id="rId2" Type="http://schemas.openxmlformats.org/officeDocument/2006/relationships/hyperlink" Target="http://en.wikipedia.org/wiki/Health" TargetMode="External"/><Relationship Id="rId3" Type="http://schemas.openxmlformats.org/officeDocument/2006/relationships/hyperlink" Target="http://en.wikipedia.org/wiki/Diseases_of_affluence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diovascular_disease" TargetMode="External"/><Relationship Id="rId2" Type="http://schemas.openxmlformats.org/officeDocument/2006/relationships/hyperlink" Target="http://en.wikipedia.org/wiki/Chronic_obstructive_pulmonary_disease" TargetMode="External"/><Relationship Id="rId3" Type="http://schemas.openxmlformats.org/officeDocument/2006/relationships/hyperlink" Target="http://en.wikipedia.org/wiki/Diabetes_mellitus_type_2" TargetMode="External"/><Relationship Id="rId4" Type="http://schemas.openxmlformats.org/officeDocument/2006/relationships/hyperlink" Target="http://en.wikipedia.org/wiki/Lower_back_pain" TargetMode="External"/><Relationship Id="rId5" Type="http://schemas.openxmlformats.org/officeDocument/2006/relationships/hyperlink" Target="http://en.wikipedia.org/wiki/Malnutrition" TargetMode="External"/><Relationship Id="rId6" Type="http://schemas.openxmlformats.org/officeDocument/2006/relationships/hyperlink" Target="http://en.wikipedia.org/wiki/Scurvy" TargetMode="External"/><Relationship Id="rId7" Type="http://schemas.openxmlformats.org/officeDocument/2006/relationships/hyperlink" Target="http://en.wikipedia.org/wiki/Vitamin_C" TargetMode="External"/><Relationship Id="rId8" Type="http://schemas.openxmlformats.org/officeDocument/2006/relationships/hyperlink" Target="http://en.wikipedia.org/wiki/Skin_cancer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netic_disorders" TargetMode="External"/><Relationship Id="rId2" Type="http://schemas.openxmlformats.org/officeDocument/2006/relationships/hyperlink" Target="http://en.wikipedia.org/wiki/Down_syndrome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stic_fibrosis" TargetMode="External"/><Relationship Id="rId2" Type="http://schemas.openxmlformats.org/officeDocument/2006/relationships/hyperlink" Target="http://en.wikipedia.org/wiki/Mutation" TargetMode="External"/><Relationship Id="rId3" Type="http://schemas.openxmlformats.org/officeDocument/2006/relationships/hyperlink" Target="http://en.wikipedia.org/wiki/Sodium_chloride" TargetMode="External"/><Relationship Id="rId4" Type="http://schemas.openxmlformats.org/officeDocument/2006/relationships/hyperlink" Target="http://en.wikipedia.org/wiki/Recessive_gene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tabolic_disorder" TargetMode="External"/><Relationship Id="rId2" Type="http://schemas.openxmlformats.org/officeDocument/2006/relationships/hyperlink" Target="http://en.wikipedia.org/wiki/Blood_glucose" TargetMode="External"/><Relationship Id="rId3" Type="http://schemas.openxmlformats.org/officeDocument/2006/relationships/hyperlink" Target="http://en.wikipedia.org/wiki/Insulin_resistance" TargetMode="External"/><Relationship Id="rId4" Type="http://schemas.openxmlformats.org/officeDocument/2006/relationships/hyperlink" Target="http://en.wikipedia.org/wiki/Insulin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iabetes_mellitus" TargetMode="External"/><Relationship Id="rId2" Type="http://schemas.openxmlformats.org/officeDocument/2006/relationships/hyperlink" Target="http://en.wikipedia.org/wiki/Physical_exercise" TargetMode="External"/><Relationship Id="rId3" Type="http://schemas.openxmlformats.org/officeDocument/2006/relationships/hyperlink" Target="http://en.wikipedia.org/wiki/Dieting" TargetMode="External"/><Relationship Id="rId4" Type="http://schemas.openxmlformats.org/officeDocument/2006/relationships/hyperlink" Target="http://en.wikipedia.org/wiki/Heart_attack" TargetMode="External"/><Relationship Id="rId5" Type="http://schemas.openxmlformats.org/officeDocument/2006/relationships/hyperlink" Target="http://en.wikipedia.org/wiki/Strokes" TargetMode="External"/><Relationship Id="rId6" Type="http://schemas.openxmlformats.org/officeDocument/2006/relationships/hyperlink" Target="http://en.wikipedia.org/wiki/Amputation" TargetMode="External"/><Relationship Id="rId7" Type="http://schemas.openxmlformats.org/officeDocument/2006/relationships/hyperlink" Target="http://en.wikipedia.org/wiki/Kidney_failure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ebmd.com/heart/picture-of-the-heart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ebmd.com/lung/carbon-dioxide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ebmd.com/heart/picture-of-the-aorta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ebmd.com/digestive-disorders/picture-of-the-abdomen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ebmd.com/heart-disease/default.htm" TargetMode="External"/><Relationship Id="rId2" Type="http://schemas.openxmlformats.org/officeDocument/2006/relationships/hyperlink" Target="http://www.webmd.com/content/pages/9/1675_57851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webmd.com/content/pages/9/1675_57851.htm" TargetMode="External"/><Relationship Id="rId2" Type="http://schemas.openxmlformats.org/officeDocument/2006/relationships/hyperlink" Target="http://www.webmd.com/heart-disease/heart-disease-heart-attacks" TargetMode="External"/><Relationship Id="rId3" Type="http://schemas.openxmlformats.org/officeDocument/2006/relationships/hyperlink" Target="http://www.webmd.com/content/pages/9/1675_57832.htm" TargetMode="External"/><Relationship Id="rId4" Type="http://schemas.openxmlformats.org/officeDocument/2006/relationships/hyperlink" Target="http://www.webmd.com/content/pages/9/1675_57832.htm" TargetMode="External"/><Relationship Id="rId5" Type="http://schemas.openxmlformats.org/officeDocument/2006/relationships/hyperlink" Target="http://www.webmd.com/content/pages/9/1675_57819.htm" TargetMode="External"/><Relationship Id="rId6" Type="http://schemas.openxmlformats.org/officeDocument/2006/relationships/hyperlink" Target="http://www.webmd.com/content/pages/9/1675_57850.htm" TargetMode="External"/><Relationship Id="rId7" Type="http://schemas.openxmlformats.org/officeDocument/2006/relationships/hyperlink" Target="http://www.webmd.com/content/pages/9/1675_57849.htm" TargetMode="Externa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isease" TargetMode="External"/><Relationship Id="rId2" Type="http://schemas.openxmlformats.org/officeDocument/2006/relationships/hyperlink" Target="http://en.wikipedia.org/wiki/Non-infectious_diseases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art_disease" TargetMode="External"/><Relationship Id="rId2" Type="http://schemas.openxmlformats.org/officeDocument/2006/relationships/hyperlink" Target="http://en.wikipedia.org/wiki/Stroke" TargetMode="External"/><Relationship Id="rId3" Type="http://schemas.openxmlformats.org/officeDocument/2006/relationships/hyperlink" Target="http://en.wikipedia.org/wiki/Cancer" TargetMode="External"/><Relationship Id="rId4" Type="http://schemas.openxmlformats.org/officeDocument/2006/relationships/hyperlink" Target="http://en.wikipedia.org/wiki/Asthma" TargetMode="External"/><Relationship Id="rId5" Type="http://schemas.openxmlformats.org/officeDocument/2006/relationships/hyperlink" Target="http://en.wikipedia.org/wiki/Diabetes_mellitus" TargetMode="External"/><Relationship Id="rId6" Type="http://schemas.openxmlformats.org/officeDocument/2006/relationships/hyperlink" Target="http://en.wikipedia.org/wiki/Chronic_kidney_disease" TargetMode="External"/><Relationship Id="rId7" Type="http://schemas.openxmlformats.org/officeDocument/2006/relationships/hyperlink" Target="http://en.wikipedia.org/wiki/Osteoporosis" TargetMode="External"/><Relationship Id="rId8" Type="http://schemas.openxmlformats.org/officeDocument/2006/relationships/hyperlink" Target="http://en.wikipedia.org/wiki/Alzheimer%27s_disease" TargetMode="External"/><Relationship Id="rId9" Type="http://schemas.openxmlformats.org/officeDocument/2006/relationships/hyperlink" Target="http://en.wikipedia.org/wiki/Cataract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ronic_diseases" TargetMode="External"/><Relationship Id="rId2" Type="http://schemas.openxmlformats.org/officeDocument/2006/relationships/hyperlink" Target="http://en.wikipedia.org/wiki/World_Health_Organization" TargetMode="External"/><Relationship Id="rId3" Type="http://schemas.openxmlformats.org/officeDocument/2006/relationships/hyperlink" Target="http://en.wikipedia.org/wiki/Death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sk_factor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igh_blood_press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isk_factor" TargetMode="External"/><Relationship Id="rId2" Type="http://schemas.openxmlformats.org/officeDocument/2006/relationships/hyperlink" Target="http://en.wikipedia.org/wiki/Genetics" TargetMode="External"/><Relationship Id="rId3" Type="http://schemas.openxmlformats.org/officeDocument/2006/relationships/hyperlink" Target="http://en.wikipedia.org/wiki/Air_pollution" TargetMode="External"/><Relationship Id="rId4" Type="http://schemas.openxmlformats.org/officeDocument/2006/relationships/hyperlink" Target="http://en.wikipedia.org/wiki/Smoking" TargetMode="External"/><Relationship Id="rId5" Type="http://schemas.openxmlformats.org/officeDocument/2006/relationships/hyperlink" Target="http://en.wikipedia.org/wiki/Healthy_diet" TargetMode="External"/><Relationship Id="rId6" Type="http://schemas.openxmlformats.org/officeDocument/2006/relationships/hyperlink" Target="http://en.wikipedia.org/wiki/Sedentary_lifestyle" TargetMode="External"/><Relationship Id="rId7" Type="http://schemas.openxmlformats.org/officeDocument/2006/relationships/hyperlink" Target="http://en.wikipedia.org/wiki/Hypertension" TargetMode="External"/><Relationship Id="rId8" Type="http://schemas.openxmlformats.org/officeDocument/2006/relationships/hyperlink" Target="http://en.wikipedia.org/wiki/Obesity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n-Communicable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e they preventabl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Most NCDs are considered preventable because they are caused by modifiable risk fa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What does “modifiable”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ive Important 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The WHO's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orld Health Report 2002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identified five important risk factors for non-communicable disease in the top ten leading risks to health. These are 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raised blood pressure, raised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holesterol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, tobacco use, alcohol consumption, and over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iminate the 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It has been estimated that if the primary risk factors were eliminated, 80% of the cases of heart disease, stroke and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ype 2 diabete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and 40% of cancers could be prevented.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ven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Interventions targeting the main risk factors could have a significant impact on reducing the burden of disease 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Efforts focused on better diet and increased physical activity have been shown to control the prevalence of NC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NCDs include many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environmental disease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, covering a broad category of avoidable and unavoidabl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uman health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conditions caused by external factors, such as sunlight, food, pollution, and lifestyle cho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seases of affluence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are non-infectious diseases with environmental cause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s of Environmental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Example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Many types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ardiovascular diseas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(CV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hronic obstructive pulmonary diseas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(COPD) caused by smoking tobac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abetes mellitus typ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Lower back pai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too little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Malnutritio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too little food, or eating the wrong kinds of food (e.g.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curvy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from lack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Vitamin C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Skin cancer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caused by radiation from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herited Dise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Genetic disorde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are caused by errors in genetic information that produce diseases in the affected people. These errors may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change in the chromosome numbers, such as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own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defect in a single gene caused by m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A rearrangement of genetic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herited Diseases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ystic fibrosis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is an example of an inherited disease that is caused by a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utation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on a g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The faulty gene impairs the normal movement of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odium chlorid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 in and out of cells, which causes the mucus-secreting organs to produce abnormally thick mucu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The gene is </a:t>
            </a:r>
            <a:r>
              <a:rPr b="0" lang="en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recessive</a:t>
            </a:r>
            <a:r>
              <a:rPr b="1" lang="en" sz="2400" spc="-1" strike="noStrike">
                <a:solidFill>
                  <a:srgbClr val="ffffff"/>
                </a:solidFill>
                <a:latin typeface="Tahoma"/>
              </a:rPr>
              <a:t>, meaning that a person must have two copies of the faulty gene for them to develop the dise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stic Fibrosis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Cystic fibrosis affects the respiratory, digestive and reproductive systems, as well as the sweat gl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mucus secreted is very thick and blocks passageways in the lungs and digestive tra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is mucus causes problems with breathing and with the digestion and absorption of nutr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abetes Mellitus Type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rl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n-insulin-dependent diabetes mellitus (NIDDM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ult-onset diabe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– i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etabolic disorde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that is characterized by high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blood gluco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in the context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insulin resistanc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relativ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insuli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ficie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is a non-communicable disea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. A disease that you don’t talk ab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. A disease that attacks your social sk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. A disease that can’t be passed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. A disease that can be passed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abetes Mellitus Type 2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Diabet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is often initially managed by increasing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xercis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dietary modifi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 If the condition progresses, medications may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-term complications from high blood sugar can include increased risk of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eart attack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strok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amput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kidney failu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treme cases, circulation of limbs is affected, potentially requiring amputation. Loss of hearing, eyesight, and cognitive ability has also been linked to this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sson 2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hat is can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. A disease you can catch from g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. A sexually transmitted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. Occurs when cells div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. Occurs when abnormal cells grow out of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29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get regular check ups regarding family dis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is an amazing organ. It continuously pumps oxygen and nutrient-rich blood throughout your body to sustain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fist-sized powerhouse beats (expands and contracts) 100,000 times per day, pumping five or six quarts of blood each minute, or about 2,000 gallons per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he Heart Work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heart beats, it pumps blood through a system of blood vessels, called the circulatory system. The vessels are elastic, muscular tubes that carry blood to every part of the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eart’s Fun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is essent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carrying fresh oxygen from the lungs and nutrients to your body's tissues, it also takes the body's waste products, including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away from the tissu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necessary to sustain life and promote the health of all the body's tiss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e Main Types of Blood Vesse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e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begin with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ort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the large artery leaving the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rteries carry oxygen-rich blood away from the heart to all of the body's tissu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y branch several times, becoming smaller and smaller as they carry blood further from the heart and into organ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2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n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Type of Blood Vess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pillar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se are small, thin blood vessels that connect the arteries and the vei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ir thin walls allow oxygen, nutrients, carbon dioxide, and other waste products to pass to and from our organ's cell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3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r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Type of Blood Vess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i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se are blood vessels that take blood back to the heart; this blood has lower oxygen content) and is rich in waste products that are to be excreted or removed from the body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Veins become larger and larger as they get closer to the hear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superior vena cava is the large vein that brings blood from the head and arms to the heart, and the inferior vena cava brings blood from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bdome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and legs into the hear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d you know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vast system of blood vessels -- arteries, veins, and capillaries -- is over 60,000 miles long. That's long enough to go around the world more than twi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flows continuously through your body's blood vessels. Your heart is the pump that makes it all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2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be informed about my hered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think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 dise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usually people think o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coronary artery dise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(narrowing of the arteries leading to the heart), but coronary artery disease is just one type of cardiovascular dis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diovascular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diovascular disease includes a number of conditions affecting the structures or function of the heart. They can inclu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oronary artery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including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eart attack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Abnormal heart rhythms or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arrythmia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eart failur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Heart valve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ngenital heart diseas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art muscle disease (cardiomyopathy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icardial disea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rta disease and Marfan syndro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scular disease (blood vessel diseas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ding Cause of Death in the U.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ovascular disease is the leading cause of death for both men and women in the U.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learn about your heart to help prevent heart disea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, if you have cardiovascular disease, you can live a healthier, more active life by learning about your disease and treatments and by becoming an active participant in your c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bnormal Heart Rhyth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eart is an amazing org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beats in a steady, even rhythm, about 60 to 100 times each minute (that's about 100,000 times each day!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sometimes your heart gets out of rhythm. An irregular or abnormal heartbeat is called an arrhythmia. An arrhythmia (also called a dysrhythmia) can involve a change in the rhythm, producing an uneven heartbeat, or a change in the rate, causing a very slow or very fast heartb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rt Fail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rm "heart failure" can be frighten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does not mean the heart has "failed" or stopped work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t means the heart does not pump as well as it shoul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hen leads to salt and water retention, causing swelling and shortness of breath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welling and shortness of breath are the primary symptoms of heart fail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genital Heart Dise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enital heart disease is a type of defect in one or more structures of the heart or blood vessels that occurs before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affects about eight out of every 1,000 children. Congenital heart defects may produce symptoms at birth, during childhood, and sometimes not until adulth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cases scientists don't know why they occur. Heredity may play a role as well as exposure to the fetus during pregnancy to certain viral infections, alcohol, or dru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Canc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cer is the general name for a group of more than 100 diseases in which cells in a part of the body begin to grow out of contro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hough there are many kinds of cancer, they all start because abnormal cells grow out of control. Untreated cancers can cause serious illness and even dea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rmal Cells in the B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dy is made up of hundreds of millions of living cells. Normal body cells grow, divide, and die in an orderly fash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the early years of a person's life, normal cells divide faster to allow the person to grow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person becomes an adult, most cells divide only to replace worn-out or dying cells or to repair inju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 St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starts when cells in a part of the body start to grow out of control. There are many kinds of cancer, but they all start because of out-of-control growth of abnormal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 growth is different from normal cell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ead of dying, cancer cells continue to grow and form new, abnormal ce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s can also invade (grow into) other tissues, something that normal cells cannot 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ing out of control and invading other tissues are what makes a cell a cancer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it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A non-communicable disease, or NCD, is a medical condition or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disease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 which is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non-infectious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 become cancer cells because of damage to DN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is in every cell and directs all its a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normal cell, when DNA gets damaged the cell either repairs the damage or the cell d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ancer cells, the damaged DNA is not repaired, but the cell doesn’t die like it shou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this cell goes on making new cells that the body does not ne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new cells will all have the same damaged DNA as the first cell do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can inherit damaged DNA, but most DNA damage is caused by mistakes that happen while the normal cell is reproducing or by something in our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the cause of the DNA damage is something obvious, like cigarette smok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often no clear cause is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cases the cancer cells form a tu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ancers, like leukemia, rarely form tum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ead, these cancer cells involve the blood and blood-forming organs and circulate through other tissues where they gr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 Spr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cer cells often travel to other parts of the body, where they begin to grow and form new tumors that replace normal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cess is called metastas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ppens when the cancer cells get into the bloodstream or lymph vessels of our bo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ancers Differ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tter where a cancer may spread, it is always named for the place where it star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breast cancer that has spread to the liver is still called breast cancer, not liver canc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wise, prostate cancer that has spread to the bone is metastatic prostate cancer, not bone ca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erent Types of Cancer Behave Different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types of cancer can behave very differen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lung cancer and breast cancer are very different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row at different rates and respond to different treat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why people with cancer need treatment that is aimed at their particular kind of canc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Common is Canc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of all men and one-third of all women in the US will develop cancer during their life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, millions of people are living with cancer or have had canc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sk of developing most types of cancer can be reduced by changes in a person's lifestyle, for example, by quitting smoking, limiting time in the sun, being physically active, and eating a better di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ooner a cancer is found and treated, the better the chances are for living for many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sson 3 Bell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ame 5 non-communicable dis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alth Goal # 3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 will be informed about the symptoms of hereditary diseases that run in my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ncer Vide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anc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bout NC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NCDs are diseases of long duration and generally slow progress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They include: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eart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strok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ancer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asthma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diabete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chronic kidney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osteoporosi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Alzheimer's disease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cataracts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, and more.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on-infectio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While often referred to as "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chronic disease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", NCDs are distinguished by their non-infectious ca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orld Health Organization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(WHO) reports NCDs to be by far the leading cause of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ortality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in the world, representing over 60% of all death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from NC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Out of the 35 million people who died from NCDs in 2005, half were under age 70 and half were wom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isk facto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such as a person's background, lifestyle and environment are known to increase the likelihood of certain NCDs.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from NC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Every year, at least 5 million people die because of tobacco use and about 2.8 million die from being overweigh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High cholesterol accounts for roughly 2.6 million deaths and 7.5 million die because of </a:t>
            </a:r>
            <a:r>
              <a:rPr b="0" lang="en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igh blood pressure</a:t>
            </a:r>
            <a:r>
              <a:rPr b="1" lang="en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Risk Fact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isk factors</a:t>
            </a:r>
            <a:r>
              <a:rPr b="1" lang="en" sz="2800" spc="-1" strike="noStrike">
                <a:solidFill>
                  <a:srgbClr val="ffffff"/>
                </a:solidFill>
                <a:latin typeface="Tahoma"/>
              </a:rPr>
              <a:t> such as a person's background, lifestyle and environment are known to increase the likelihood of certain non-communicable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They include: age, sex,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genetics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exposure to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air pollution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and behaviors such as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moking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unhealthy diet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physical inactivity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which can lead to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hypertension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lang="en" sz="28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obesity</a:t>
            </a:r>
            <a:r>
              <a:rPr b="1" lang="en" sz="2800" spc="-1" strike="noStrike">
                <a:solidFill>
                  <a:srgbClr val="ffff00"/>
                </a:solidFill>
                <a:latin typeface="Tahoma"/>
              </a:rPr>
              <a:t>, in turn leading to increased risk of many NCDs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5:39:52Z</dcterms:created>
  <dc:creator>Hope Whiting</dc:creator>
  <dc:description/>
  <dc:language>en-US</dc:language>
  <cp:lastModifiedBy>Hope Whiting</cp:lastModifiedBy>
  <dcterms:modified xsi:type="dcterms:W3CDTF">2011-06-22T18:08:24Z</dcterms:modified>
  <cp:revision>6</cp:revision>
  <dc:subject/>
  <dc:title>Non-Communicable Diseases</dc:title>
</cp:coreProperties>
</file>